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285-ABB9-4930-8858-D22BDB86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8B1-2541-43A7-AD1F-9BCA75F4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B04-2889-4AFE-A688-85B64364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7AE-3065-450E-B89E-E0824796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4E0-8840-4039-91CB-95C0ED43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D2B-A5B1-4EE3-86A4-48B80252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32D-6141-4138-8058-6D33490F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0FA-A3A6-4085-A763-163E1FCE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E9D-FF76-496F-A09F-2E446682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79F-EB3A-4892-B99C-C1EABC26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521-66EC-429C-9DF6-03FDEC5F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DB3-6900-453B-A91B-BDA256D9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F913-1C51-443D-8AFC-6136AE685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mdb.com/media/rm1476631808/tt0063878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Familias Fam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milia Br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876920" cy="5333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3657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50080" y="25146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7480" y="48006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44792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1752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8040" y="38098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8040" y="4572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2240" y="24382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3440" y="13716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00240" y="1676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095880" y="20574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171840" y="3429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333760" y="4343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8098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81080" y="373356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057400" y="22096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milia Add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239724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408480" y="-1006560"/>
            <a:ext cx="1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3409920" y="-96048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239724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-3409920" y="1371600"/>
          <a:ext cx="1428840" cy="5176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3430080" y="6398640"/>
            <a:ext cx="3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3657600" y="2819520"/>
          <a:ext cx="257040" cy="45280080"/>
        </p:xfrm>
        <a:graphic>
          <a:graphicData uri="http://schemas.openxmlformats.org/drawingml/2006/table">
            <a:tbl>
              <a:tblPr/>
              <a:tblGrid>
                <a:gridCol w="257040"/>
              </a:tblGrid>
              <a:tr h="45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914400" y="1523880"/>
            <a:ext cx="73915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milia Br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229068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3408480" y="-1112760"/>
            <a:ext cx="1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3409920" y="-106668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447920" y="-609480"/>
            <a:ext cx="10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229068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88920" y="563868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-2819520" y="4495680"/>
          <a:ext cx="533520" cy="44848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5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133720" y="1143000"/>
            <a:ext cx="4876560" cy="6324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2743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4648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50320" y="2590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50320" y="35053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64832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7320" y="22860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12400" y="3505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12040" y="4572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milia Br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8672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54:03Z</dcterms:created>
  <dc:creator>mpitts</dc:creator>
  <dc:description/>
  <dc:language>en-US</dc:language>
  <cp:lastModifiedBy>mpitts</cp:lastModifiedBy>
  <dcterms:modified xsi:type="dcterms:W3CDTF">2008-04-25T22:49:49Z</dcterms:modified>
  <cp:revision>7</cp:revision>
  <dc:subject/>
  <dc:title>Slide 1</dc:title>
</cp:coreProperties>
</file>